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png" ContentType="image/png"/>
  <Override PartName="/ppt/media/image24.jpeg" ContentType="image/jpeg"/>
  <Override PartName="/ppt/media/image22.png" ContentType="image/png"/>
  <Override PartName="/ppt/media/image23.jpeg" ContentType="image/jpeg"/>
  <Override PartName="/ppt/media/image12.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png" ContentType="image/png"/>
  <Override PartName="/ppt/media/image39.png" ContentType="image/png"/>
  <Override PartName="/ppt/media/image41.png" ContentType="image/png"/>
  <Override PartName="/ppt/media/image35.png" ContentType="image/png"/>
  <Override PartName="/ppt/media/image5.jpeg" ContentType="image/jpeg"/>
  <Override PartName="/ppt/media/image36.png" ContentType="image/png"/>
  <Override PartName="/ppt/media/image40.png" ContentType="image/png"/>
  <Override PartName="/ppt/media/image11.jpeg" ContentType="image/jpeg"/>
  <Override PartName="/ppt/media/image30.png" ContentType="image/png"/>
  <Override PartName="/ppt/media/image42.png" ContentType="image/png"/>
  <Override PartName="/ppt/media/image43.png" ContentType="image/png"/>
  <Override PartName="/ppt/media/image45.png" ContentType="image/png"/>
  <Override PartName="/ppt/media/image47.png" ContentType="image/png"/>
  <Override PartName="/ppt/media/image10.png" ContentType="image/png"/>
  <Override PartName="/ppt/media/image46.png" ContentType="image/png"/>
  <Override PartName="/ppt/media/image37.png" ContentType="image/png"/>
  <Override PartName="/ppt/media/image7.png" ContentType="image/png"/>
  <Override PartName="/ppt/media/image38.png" ContentType="image/png"/>
  <Override PartName="/ppt/media/image8.png" ContentType="image/png"/>
  <Override PartName="/ppt/media/image14.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A340D-56D9-495D-8BE8-4EA3F74B0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DFFEE-E241-4BD0-844C-50765AD3D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DBAB1-9F36-4C54-A282-6FEE51B4F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076DC-45F1-4381-A241-3203F4C9A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4D576-E2F3-43ED-8243-17DABE967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FDB5D-AB9F-40B3-9667-D196327EB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8A4B9-3B12-40B3-9D6F-38770CE6C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41953-CBD7-43CF-AC34-61322FECB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03D0E-5E21-41A4-979F-D7249F2A0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CF9C4-4718-47CF-AB96-129F1975F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DD39B-59F3-4F30-A944-E0805A6AA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75C7E-8B87-497F-AC97-C6CE50757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919F9-9F7D-4FB3-82B4-DFF64CB3C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B2A2C-2D56-4E5F-B907-C41CA5551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0A682-2904-403C-9451-00C1F4BE8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3B7B9-48F4-4123-B497-65F3E4F6D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AD3CA-61F6-4C25-B196-58FD8AF05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303323-4C29-4CE2-A2A1-7ACC70C26A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1BDBE-CA34-462E-A488-E6542EE8C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A32C89-A1FD-4217-A017-23CA78D38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433F5-06BF-4A5B-BDA4-825F499ED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E7D07-FB2E-4B5F-8AED-98A7A73860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58C5D-E25C-48D6-AC34-0E17687D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953D7-075D-4084-B5C1-D57DA5555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C0C42-9CE2-410D-8EE6-69ED6C1C7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56E80-90D0-4A6B-B497-10ECF3D1F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F0F686-CAD4-4964-8B0B-A97A7BB82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89371-9F4A-47C0-AC31-131FA5A41D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43A44F-AE4D-4DFE-8756-65CE320A1B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45CD38-9E32-4413-A57C-0E07204A8C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B0FAA0-8508-490E-BB2C-6E15C9DFB3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8C52C-AD43-4814-B9C1-50DA664AC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DC08D-26BB-4D2F-A8B7-86096A6A6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D83F0-34AC-446E-994A-88675D4D9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F91BC-C8DE-4775-8169-B24FE2517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C54605-C96C-4366-8E8C-AB20005BB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EDABEA-5242-4926-AD3F-07E1A813F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0652D-E11E-495C-B772-2781C7A83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F767A-8C85-43FA-9A9A-592BAFB29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4F4DE-007B-4639-B568-FD95BF123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C6FBEE-8A2C-4899-A5AD-EBA312CC1F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C16C7E-CEFD-41F2-8349-47A6AC5CEE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46AB5-5D24-4595-B315-C08F8D3D51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0E27C4-4ABB-48DF-A0D4-4447C2C105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DF981-0258-42EB-9F43-2104485D0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A91C42-8414-4E19-90CC-53B7B5086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A1DC2-4327-47D5-BB81-C1C4BABACA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8245A-0FF9-4D6B-8F22-16A5F4C341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838DD2-825F-47EE-8D01-6B452A163D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C5C03-A58C-4500-9088-2C55B6033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52966-27EE-412F-BF77-2DC521076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574F0-E18A-45DA-ACFF-DD0902FB88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340F3-335A-43FF-9E48-F530593AF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48136-97D9-4456-8A36-0FB5D808AF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409010-5C36-469B-8992-6249EB39BF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6C534-DDE3-44E0-A760-9A4DC655C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2F4444-78CD-426D-9C80-B72F328723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5EED87-6681-4230-881A-869263C600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9FB3E5-AAB9-4EE2-B3DC-AB4116626E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51D791-54DF-4AAD-8592-751BFA4675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D8EEE-3ECB-43C3-96E7-BE55558C67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205B13-2E76-46D0-85BE-62B9CD0586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D082C0-731C-4C0C-B52A-9ADFF7DE8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5BECE-9A74-46B3-A3E7-DBB5AF5B68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BA85C3-F729-4EB1-990B-B03616827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07A261-7C58-4BDB-BF76-64B19A29E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F820-DC2F-4CFD-A073-4F201452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8F1B3-5039-4BA0-A555-69C77AD5F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026A77-720B-46F0-A549-98986E9244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5FD073-1A8D-4F41-9AAF-3B7349797B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C8A7FA-4575-48B3-893B-FF9154500A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9E74F9-FE1F-4A9B-96AD-C279BB847C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227272-1723-4B1C-958D-F703E14BD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49F0EB-EA63-4760-852B-A99F5EF5E4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0BE4A-4102-4ECF-B7B5-76F4A8CEF4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9D006D-5842-4103-B546-13F3B8866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830496-9722-4C85-8459-D9D4D07B5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887D2-52C3-4241-8984-7E9FE37E2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8F77AA-426B-4DEB-9453-F742EF173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BF397-B7D9-43FA-934C-75499469A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D05DE-A69F-40C3-9FFD-0E041362E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938C18-AC33-43DD-8D84-6DFB8B4432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694BB8-15ED-47CC-B1A8-18D534CAE1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E74BD9-C485-44D4-B20C-F18A1842A8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39685A-6FA1-48D6-9738-742D921D58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3C607C-4E51-458A-A332-6F57FAFB82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1BA3FD-B838-401F-AD73-FC582F599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2219DD-7078-40E2-BD48-4B41FE9CC3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4B850-9774-4AED-9E82-263DBDCA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2A499D-576C-46A9-9797-C3BBAEC83A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E53E63-3645-4A37-953C-E165FF835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F7B55-0022-4116-B3E3-9CCD9B5A5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5FEC4-8257-4056-AEEE-6E5F2C42ED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25B87-BFAF-49AD-B18A-F8CEA3C862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83D922-A852-47C6-AD01-D78A3A8329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7C7AD0-DE85-43BC-9FB1-F6ABE6E6443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3F21-95E9-4490-90E6-3A8A7881D2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1610-DCCB-45CC-AB04-C526F502BF9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C955-F20D-4564-9CD0-961CAC6FC5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AB2E-E2E6-4E93-9B60-1CD2815547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58CE-FF3B-420A-90A4-5FC5A6953D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3202-8AE7-4236-A2A1-19317C99E7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5B55-C765-479E-8BAF-FB5811192A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AB84-1947-4AE4-8D7C-7E1F13FFCA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1.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192880" cy="216396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News Media</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Sanda Univerist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Eric Duffy</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Content Placeholder 3" descr=""/>
          <p:cNvPicPr/>
          <p:nvPr/>
        </p:nvPicPr>
        <p:blipFill>
          <a:blip r:embed="rId1"/>
          <a:stretch/>
        </p:blipFill>
        <p:spPr>
          <a:xfrm>
            <a:off x="3429000" y="1523880"/>
            <a:ext cx="1819440" cy="2505240"/>
          </a:xfrm>
          <a:prstGeom prst="rect">
            <a:avLst/>
          </a:prstGeom>
          <a:ln w="0">
            <a:noFill/>
          </a:ln>
        </p:spPr>
      </p:pic>
      <p:pic>
        <p:nvPicPr>
          <p:cNvPr id="394" name="Title 1" descr=""/>
          <p:cNvPicPr/>
          <p:nvPr/>
        </p:nvPicPr>
        <p:blipFill>
          <a:blip r:embed="rId2"/>
          <a:stretch/>
        </p:blipFill>
        <p:spPr>
          <a:xfrm>
            <a:off x="231840" y="274680"/>
            <a:ext cx="8454960" cy="1189080"/>
          </a:xfrm>
          <a:prstGeom prst="rect">
            <a:avLst/>
          </a:prstGeom>
          <a:ln w="0">
            <a:noFill/>
          </a:ln>
        </p:spPr>
      </p:pic>
      <p:pic>
        <p:nvPicPr>
          <p:cNvPr id="395" name="Picture 4" descr=""/>
          <p:cNvPicPr/>
          <p:nvPr/>
        </p:nvPicPr>
        <p:blipFill>
          <a:blip r:embed="rId3"/>
          <a:stretch/>
        </p:blipFill>
        <p:spPr>
          <a:xfrm>
            <a:off x="609480" y="4200480"/>
            <a:ext cx="2419560" cy="1886040"/>
          </a:xfrm>
          <a:prstGeom prst="rect">
            <a:avLst/>
          </a:prstGeom>
          <a:ln w="0">
            <a:noFill/>
          </a:ln>
        </p:spPr>
      </p:pic>
      <p:pic>
        <p:nvPicPr>
          <p:cNvPr id="396" name="Picture 5" descr=""/>
          <p:cNvPicPr/>
          <p:nvPr/>
        </p:nvPicPr>
        <p:blipFill>
          <a:blip r:embed="rId4"/>
          <a:stretch/>
        </p:blipFill>
        <p:spPr>
          <a:xfrm>
            <a:off x="5638680" y="4314960"/>
            <a:ext cx="2581560" cy="1771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9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9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d during World War II (1941)</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d by the U.S. as propaganda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o increase patriotism and nationalism</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o show the strength of American character</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tain America fought again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Nazis and Hitle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munis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errorist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97">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97">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397">
                                            <p:txEl>
                                              <p:pRg st="5" end="5"/>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97">
                                            <p:txEl>
                                              <p:pRg st="6" end="6"/>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rom its origin, the character was meant to represent the average Americ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ce skinny, weak, and not successful Captain America turned into a strong, power, and forceful pers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ot that different from America’s histor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ble to act alone to defend the world against evil powers</a:t>
            </a: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It’s tough to beat the purity of him representing all the great American ideals of freedom and justic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Captain America is representative of something that was once considered sacred in America’s past. The themes of justice, freedom and bravery are all elements that we are familiar with and remains a significant part in today’s societ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short, Captain America and his characteristics represent America itself</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tch both clips from Spiderm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you think this mean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 a real life example of this phrase </a:t>
            </a: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ideal adds further meaning to Spiderman’s heroism, and invites the audience to participate in sharing the ultimate will to fight against evi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You have the power to act and stop bad things from happening, so you must do what is righ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Title 1" descr=""/>
          <p:cNvPicPr/>
          <p:nvPr/>
        </p:nvPicPr>
        <p:blipFill>
          <a:blip r:embed="rId1"/>
          <a:stretch/>
        </p:blipFill>
        <p:spPr>
          <a:xfrm>
            <a:off x="304920" y="487440"/>
            <a:ext cx="8229600" cy="16160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5">
                                            <p:txEl>
                                              <p:pRg st="2" end="2"/>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you could do good things for other people, you had a moral responsibility to do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t a choice but responsibilit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works alone or is the obvious lead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rd childhood: lonely, not many friend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uggles with their new found pow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don’t want the responsibility of being the savior of societ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t they have to be because society (police or government) is not doing enoug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0"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409">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believe in the idea of leaving no man behind: honor, sacrifice, loyalty, something bigger than yourself</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o, they will always have a nice dramatic speech over inspiring music completely contradicting themselv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 am not a hero, but I am going to go be a hero now, aren’t I wonderful and amazing?”</a:t>
            </a:r>
            <a:endParaRPr b="0" lang="en-US" sz="2300" spc="-1" strike="noStrike">
              <a:solidFill>
                <a:srgbClr val="000000"/>
              </a:solidFill>
              <a:latin typeface="Lucida Sans Unicode"/>
            </a:endParaRPr>
          </a:p>
        </p:txBody>
      </p:sp>
      <p:pic>
        <p:nvPicPr>
          <p:cNvPr id="41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one individual fighting against evi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say they are not heroes but the subtext is that they ARE hero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sacrifice themselves for the good of society and for what they believe 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ituation is always hard and difficult but through sheer will they conquer and wi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The Dark Knight Clip”</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4"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413">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4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ing Rom Coms we talked about how movies could influence and impact our li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rough media we can see a representation of ourselves and the way we want our lives to b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short, we want to be perfect like the people in the movies we watch</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 mean its only a movie and comic boo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are created for geeks with no friends and no real ambition in lif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one believes these super heroes are re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ell no sane person </a:t>
            </a:r>
            <a:endParaRPr b="0" lang="en-US" sz="2300" spc="-1" strike="noStrike">
              <a:solidFill>
                <a:srgbClr val="000000"/>
              </a:solidFill>
              <a:latin typeface="Lucida Sans Unicode"/>
            </a:endParaRPr>
          </a:p>
        </p:txBody>
      </p:sp>
      <p:pic>
        <p:nvPicPr>
          <p:cNvPr id="416"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415">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A whole genre of muscle-bound heroes, fighting for truth and justice (“the American Way”) has remained unchanged across a broad span of tim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se superheroes on occasions become supporters of U.S. foreign policy and militaris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rther they portray even better Americans than most of America’s modern political leaders, and citizens themsel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creates the belief that Americans can do bet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t America’s military policy is correct and if only we had better people running it, it could be successfu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E. if America only had a “real-life” Captain America then terrorism wouldn’t exi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leads to idolizing military leaders and the military- team seal 6</a:t>
            </a:r>
            <a:endParaRPr b="0" lang="en-US" sz="2700" spc="-1" strike="noStrike">
              <a:solidFill>
                <a:srgbClr val="000000"/>
              </a:solidFill>
              <a:latin typeface="Lucida Sans Unicode"/>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omic books and films play a significant role in affecting, and rather critically put, manipulating public opinion on why America has to engage and remain in a continuous state of war.</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Finally, these movies constantly show scenes of American pride and of America in the background to show national pride and increase patriotism</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ptain America’s shield</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pider man on the American Flag</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erman flying across New York or America</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4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 descr=""/>
          <p:cNvPicPr/>
          <p:nvPr/>
        </p:nvPicPr>
        <p:blipFill>
          <a:blip r:embed="rId1"/>
          <a:stretch/>
        </p:blipFill>
        <p:spPr>
          <a:xfrm>
            <a:off x="457200" y="1481040"/>
            <a:ext cx="8229600" cy="4525920"/>
          </a:xfrm>
          <a:prstGeom prst="rect">
            <a:avLst/>
          </a:prstGeom>
          <a:ln w="0">
            <a:noFill/>
          </a:ln>
        </p:spPr>
      </p:pic>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425" name="Content Placeholder 3" descr=""/>
          <p:cNvPicPr/>
          <p:nvPr/>
        </p:nvPicPr>
        <p:blipFill>
          <a:blip r:embed="rId2"/>
          <a:stretch/>
        </p:blipFill>
        <p:spPr>
          <a:xfrm>
            <a:off x="3429000" y="1523880"/>
            <a:ext cx="1819440" cy="2505240"/>
          </a:xfrm>
          <a:prstGeom prst="rect">
            <a:avLst/>
          </a:prstGeom>
          <a:ln w="0">
            <a:noFill/>
          </a:ln>
        </p:spPr>
      </p:pic>
      <p:pic>
        <p:nvPicPr>
          <p:cNvPr id="426" name="Picture 4" descr=""/>
          <p:cNvPicPr/>
          <p:nvPr/>
        </p:nvPicPr>
        <p:blipFill>
          <a:blip r:embed="rId3"/>
          <a:stretch/>
        </p:blipFill>
        <p:spPr>
          <a:xfrm>
            <a:off x="609480" y="4200480"/>
            <a:ext cx="2419560" cy="1886040"/>
          </a:xfrm>
          <a:prstGeom prst="rect">
            <a:avLst/>
          </a:prstGeom>
          <a:ln w="0">
            <a:noFill/>
          </a:ln>
        </p:spPr>
      </p:pic>
      <p:pic>
        <p:nvPicPr>
          <p:cNvPr id="427" name="Picture 5" descr=""/>
          <p:cNvPicPr/>
          <p:nvPr/>
        </p:nvPicPr>
        <p:blipFill>
          <a:blip r:embed="rId4"/>
          <a:stretch/>
        </p:blipFill>
        <p:spPr>
          <a:xfrm>
            <a:off x="5638680" y="4314960"/>
            <a:ext cx="2581560" cy="177156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26"/>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25"/>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us, these films encourage and influence the idea of America as the “World’s policem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 clips of “Team Amer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is the point of the so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o you think this movie has these scenes? What is the movie trying to s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point of view is this movie using?</a:t>
            </a:r>
            <a:endParaRPr b="0" lang="en-US" sz="2700" spc="-1" strike="noStrike">
              <a:solidFill>
                <a:srgbClr val="000000"/>
              </a:solidFill>
              <a:latin typeface="Lucida Sans Unicode"/>
            </a:endParaRPr>
          </a:p>
        </p:txBody>
      </p:sp>
      <p:pic>
        <p:nvPicPr>
          <p:cNvPr id="43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you can see how these heroes symbolize America, their influence becomes cle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l these films show American strength against evil (American individualis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us, they paint America as doing good versus the forces of ba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es, they are just movies and comics but the symbolize they promote and project is stro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ople see these characters being good (disguised as Americans) and relate the characters to Americ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was done on purpose to keep patriotism high</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w, even though it is only for money, the symbolism remains and the more popular the movies get, the more influence this symbolism holds</a:t>
            </a:r>
            <a:endParaRPr b="0" lang="en-US" sz="2700" spc="-1" strike="noStrike">
              <a:solidFill>
                <a:srgbClr val="000000"/>
              </a:solidFill>
              <a:latin typeface="Lucida Sans Unicode"/>
            </a:endParaRPr>
          </a:p>
        </p:txBody>
      </p:sp>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43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4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s that one man can do something to help the wor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luences the thought process that the American president not only can do something, he MUST do someth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president therefore shouldn’t talk but should take ac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ot first, ask questions lat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Title 1"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day I aim to destroy your love of Superhero mov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are going to look at the true reason why these characters exist and put them into contex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 power of these characte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o they remain popul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can these characters mean America and the world?</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7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is a super power (like a super hero)</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nly America has the power, the ideals, and the right values to make the world a better plac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perheroes don’t want to do it, but they owe it to everyone, thus so does Amer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has power so they must a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ith great power comes great responsibilit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438">
                                            <p:txEl>
                                              <p:pRg st="1" end="1"/>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438">
                                            <p:txEl>
                                              <p:pRg st="2" end="2"/>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438">
                                            <p:txEl>
                                              <p:pRg st="3" end="3"/>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4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fore America must do what is hard, even if people (other countries) are upset, because America is good for the world so its actions are good for the wor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ybe America does things that seem bad or not right, but because its for “the good of the world” it will be worth i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quote Captain America, “the price of freedom is high”</a:t>
            </a:r>
            <a:endParaRPr b="0" lang="en-US" sz="2700" spc="-1" strike="noStrike">
              <a:solidFill>
                <a:srgbClr val="000000"/>
              </a:solidFill>
              <a:latin typeface="Lucida Sans Unicode"/>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440">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440">
                                            <p:txEl>
                                              <p:pRg st="1" end="1"/>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about Alien invasion of the wor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US leads the fight to destroy the Alie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liens destroy the White House and other landmar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men (with difficult lives) work together to kill the aliens</a:t>
            </a:r>
            <a:endParaRPr b="0" lang="en-US" sz="2700" spc="-1" strike="noStrike">
              <a:solidFill>
                <a:srgbClr val="000000"/>
              </a:solidFill>
              <a:latin typeface="Lucida Sans Unicode"/>
            </a:endParaRPr>
          </a:p>
        </p:txBody>
      </p:sp>
      <p:pic>
        <p:nvPicPr>
          <p:cNvPr id="443"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es this clip say about Americ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 leading the batt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esident taking part in the fighting</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ech talking about values and what is righ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acrificing for the good of the world</a:t>
            </a:r>
            <a:endParaRPr b="0" lang="en-US" sz="2300" spc="-1" strike="noStrike">
              <a:solidFill>
                <a:srgbClr val="000000"/>
              </a:solidFill>
              <a:latin typeface="Lucida Sans Unicode"/>
            </a:endParaRPr>
          </a:p>
        </p:txBody>
      </p:sp>
      <p:pic>
        <p:nvPicPr>
          <p:cNvPr id="44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4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44">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tch the first clip, what do you think this movie is about?</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ovie is based on “real ev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s how a single man helped innocent Americans escape from Ira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an worked for the 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 other two clips</a:t>
            </a:r>
            <a:endParaRPr b="0" lang="en-US" sz="2700" spc="-1" strike="noStrike">
              <a:solidFill>
                <a:srgbClr val="000000"/>
              </a:solidFill>
              <a:latin typeface="Lucida Sans Unicode"/>
            </a:endParaRPr>
          </a:p>
        </p:txBody>
      </p:sp>
      <p:pic>
        <p:nvPicPr>
          <p:cNvPr id="449"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these two clips sh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are these clips represented of what we talked abou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es these clips show about Amer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based on American military in Somal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ilitary was working to capture war lords in Somalia and helped the local citize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00 military soldiers were trapped in a shot out with local Somalia gunm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gain based on “real ev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gain focus on one or two Americans in the battle</a:t>
            </a:r>
            <a:endParaRPr b="0" lang="en-US" sz="2700" spc="-1" strike="noStrike">
              <a:solidFill>
                <a:srgbClr val="000000"/>
              </a:solidFill>
              <a:latin typeface="Lucida Sans Unicode"/>
            </a:endParaRPr>
          </a:p>
        </p:txBody>
      </p:sp>
      <p:pic>
        <p:nvPicPr>
          <p:cNvPr id="453"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52">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452">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452">
                                            <p:txEl>
                                              <p:pRg st="3" end="3"/>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4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you get from the speech?</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oes the speech frame the US and its soldi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es the speech leave ou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54">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about the killing of Osama Bin Lad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one agent’s desire to find and kill Bin Lad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gent will do anything to fulfill this mis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reaks the law and annoys everyone to do “what is right”</a:t>
            </a:r>
            <a:endParaRPr b="0" lang="en-US" sz="2700" spc="-1" strike="noStrike">
              <a:solidFill>
                <a:srgbClr val="000000"/>
              </a:solidFill>
              <a:latin typeface="Lucida Sans Unicode"/>
            </a:endParaRPr>
          </a:p>
        </p:txBody>
      </p:sp>
      <p:pic>
        <p:nvPicPr>
          <p:cNvPr id="457"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456">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6">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6">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I said there was a new Chinese movie about China and Japan, what do you think the movie would be abou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you watch a movie about Japan’s invasion of China, how is the movie framed? (what side of the story do they show?) How does it 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you watch a movie about China’s and Japan’s military, how do you feel?</a:t>
            </a:r>
            <a:endParaRPr b="0" lang="en-US" sz="2700" spc="-1" strike="noStrike">
              <a:solidFill>
                <a:srgbClr val="000000"/>
              </a:solidFill>
              <a:latin typeface="Lucida Sans Unicode"/>
            </a:endParaRPr>
          </a:p>
        </p:txBody>
      </p:sp>
      <p:pic>
        <p:nvPicPr>
          <p:cNvPr id="37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reality if an employee talked this way to her boss, what do you think would happen to 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o you think she says, “kill him for m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es that phrase, “kill him for me” seem strange to you? What does it symboliz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ersonal goal of killing Bin Lade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agent symbolizes all Americans</a:t>
            </a:r>
            <a:endParaRPr b="0" lang="en-US" sz="2100" spc="-1" strike="noStrike">
              <a:solidFill>
                <a:srgbClr val="000000"/>
              </a:solidFill>
              <a:latin typeface="Lucida Sans Unicode"/>
            </a:endParaRPr>
          </a:p>
        </p:txBody>
      </p:sp>
      <p:pic>
        <p:nvPicPr>
          <p:cNvPr id="459"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458">
                                            <p:txEl>
                                              <p:pRg st="0" end="0"/>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458">
                                            <p:txEl>
                                              <p:pRg st="1" end="1"/>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458">
                                            <p:txEl>
                                              <p:pRg st="2" end="2"/>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58">
                                            <p:txEl>
                                              <p:pRg st="3" end="3"/>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4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about America’s invasion of Nazi held Europ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focuses on the mission to save one soldier since 3 of his brothers have already been kill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3 men must risk their lives to save this one person</a:t>
            </a:r>
            <a:endParaRPr b="0" lang="en-US" sz="2700" spc="-1" strike="noStrike">
              <a:solidFill>
                <a:srgbClr val="000000"/>
              </a:solidFill>
              <a:latin typeface="Lucida Sans Unicode"/>
            </a:endParaRPr>
          </a:p>
        </p:txBody>
      </p:sp>
      <p:pic>
        <p:nvPicPr>
          <p:cNvPr id="46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60">
                                            <p:txEl>
                                              <p:pRg st="1" end="1"/>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4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watching the horrible invasion on the beach, do you think it is worth it to risk 13 lives to save o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oldier’s last words were, “earn this” what does that mea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you think this movie shows about America? (or what is the movie trying to show about America?</a:t>
            </a: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leader (or small group) who rallies the troop (or America) to overcome great obstacles to be victor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the virtuous Vs. an enemy that is “evi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n values (the right ones- freedom, liberty, honor,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ssibly doing the “wrong” thing to ensure the right side (America) w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464">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464">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4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se movies promote an America that is always on the side of the g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dividual Americans can achieve great things if they try their best and follow American idea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ly America is capable of doing these things because America is special (super?)</a:t>
            </a:r>
            <a:endParaRPr b="0" lang="en-US" sz="2700" spc="-1" strike="noStrike">
              <a:solidFill>
                <a:srgbClr val="000000"/>
              </a:solidFill>
              <a:latin typeface="Lucida Sans Unicode"/>
            </a:endParaRPr>
          </a:p>
        </p:txBody>
      </p:sp>
      <p:pic>
        <p:nvPicPr>
          <p:cNvPr id="46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466">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466">
                                            <p:txEl>
                                              <p:pRg st="1" end="1"/>
                                            </p:txEl>
                                          </p:spTgt>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4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believes it must influence events around the worl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yria, Israel/Palestine, Ukraine, Terrorism</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should lead the world (not follow)</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uld superman follow a normal huma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can do bad things if it leads to the outcome America wants (American is right, so its outcome is righ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rones or torture is okay if it stops terrorists</a:t>
            </a:r>
            <a:endParaRPr b="0" lang="en-US" sz="2300" spc="-1" strike="noStrike">
              <a:solidFill>
                <a:srgbClr val="000000"/>
              </a:solidFill>
              <a:latin typeface="Lucida Sans Unicode"/>
            </a:endParaRPr>
          </a:p>
        </p:txBody>
      </p:sp>
      <p:pic>
        <p:nvPicPr>
          <p:cNvPr id="469"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n President is believed to be able to control events around the worl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itizens are angry if the President is passive.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esident should always insist on doing things “The American Way”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uld Spiderman not help someon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bother listening to other countries when America is the strongest and the American way is be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eads to conflict and international problems</a:t>
            </a:r>
            <a:endParaRPr b="0" lang="en-US" sz="2300" spc="-1" strike="noStrike">
              <a:solidFill>
                <a:srgbClr val="000000"/>
              </a:solidFill>
              <a:latin typeface="Lucida Sans Unicode"/>
            </a:endParaRPr>
          </a:p>
        </p:txBody>
      </p:sp>
      <p:pic>
        <p:nvPicPr>
          <p:cNvPr id="471"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470">
                                            <p:txEl>
                                              <p:pRg st="0" end="0"/>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470">
                                            <p:txEl>
                                              <p:pRg st="3" end="3"/>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470">
                                            <p:txEl>
                                              <p:pRg st="4" end="4"/>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4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481040"/>
            <a:ext cx="8229600" cy="4525920"/>
          </a:xfrm>
          <a:prstGeom prst="rect">
            <a:avLst/>
          </a:prstGeom>
          <a:noFill/>
          <a:ln w="0">
            <a:noFill/>
          </a:ln>
        </p:spPr>
        <p:txBody>
          <a:bodyPr anchor="t">
            <a:normAutofit/>
          </a:bodyPr>
          <a:p>
            <a:pPr lvl="1" marL="343080" indent="-34308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uld Captain America not try to help peopl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uld Spiderman let someone weaker or stupider try to solve the proble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uld Iron Man give up fighting for what is right if people got mad at hi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so neither can America (or so it belie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7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4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ic book movies and movies that glorify the American belief in itself helps to promote and instill these ide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ithout America, the world would have no leader and thus, could easily be destroy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 like superheroes, must be willing to fight to save the world and must be willing to do anything to protect it. </a:t>
            </a:r>
            <a:endParaRPr b="0" lang="en-US" sz="2300" spc="-1" strike="noStrike">
              <a:solidFill>
                <a:srgbClr val="000000"/>
              </a:solidFill>
              <a:latin typeface="Lucida Sans Unicode"/>
            </a:endParaRPr>
          </a:p>
        </p:txBody>
      </p:sp>
      <p:pic>
        <p:nvPicPr>
          <p:cNvPr id="47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4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you think the way movies represent certain countries, symbols, and actions can affect how a country behaves? And how its citizens might want its leaders to a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nk to any Chinese war movie about Japan’s invasion of China, do you think these movies influence current policy and thought in China?</a:t>
            </a:r>
            <a:endParaRPr b="0" lang="en-US" sz="2700" spc="-1" strike="noStrike">
              <a:solidFill>
                <a:srgbClr val="000000"/>
              </a:solidFill>
              <a:latin typeface="Lucida Sans Unicode"/>
            </a:endParaRPr>
          </a:p>
        </p:txBody>
      </p:sp>
      <p:pic>
        <p:nvPicPr>
          <p:cNvPr id="47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ontent Placeholder 3" descr=""/>
          <p:cNvPicPr/>
          <p:nvPr/>
        </p:nvPicPr>
        <p:blipFill>
          <a:blip r:embed="rId1"/>
          <a:stretch/>
        </p:blipFill>
        <p:spPr>
          <a:xfrm>
            <a:off x="3400560" y="4324320"/>
            <a:ext cx="1819080" cy="2505240"/>
          </a:xfrm>
          <a:prstGeom prst="rect">
            <a:avLst/>
          </a:prstGeom>
          <a:ln w="0">
            <a:noFill/>
          </a:ln>
        </p:spPr>
      </p:pic>
      <p:pic>
        <p:nvPicPr>
          <p:cNvPr id="379" name="Title 2" descr=""/>
          <p:cNvPicPr/>
          <p:nvPr/>
        </p:nvPicPr>
        <p:blipFill>
          <a:blip r:embed="rId2"/>
          <a:stretch/>
        </p:blipFill>
        <p:spPr>
          <a:xfrm>
            <a:off x="457200" y="128520"/>
            <a:ext cx="8229600" cy="1614600"/>
          </a:xfrm>
          <a:prstGeom prst="rect">
            <a:avLst/>
          </a:prstGeom>
          <a:ln w="0">
            <a:noFill/>
          </a:ln>
        </p:spPr>
      </p:pic>
      <p:pic>
        <p:nvPicPr>
          <p:cNvPr id="380" name="Picture 4" descr=""/>
          <p:cNvPicPr/>
          <p:nvPr/>
        </p:nvPicPr>
        <p:blipFill>
          <a:blip r:embed="rId3"/>
          <a:stretch/>
        </p:blipFill>
        <p:spPr>
          <a:xfrm>
            <a:off x="5797440" y="1413000"/>
            <a:ext cx="2857680" cy="1600200"/>
          </a:xfrm>
          <a:prstGeom prst="rect">
            <a:avLst/>
          </a:prstGeom>
          <a:ln w="0">
            <a:noFill/>
          </a:ln>
        </p:spPr>
      </p:pic>
      <p:pic>
        <p:nvPicPr>
          <p:cNvPr id="381" name="Picture 5" descr=""/>
          <p:cNvPicPr/>
          <p:nvPr/>
        </p:nvPicPr>
        <p:blipFill>
          <a:blip r:embed="rId4"/>
          <a:stretch/>
        </p:blipFill>
        <p:spPr>
          <a:xfrm>
            <a:off x="5791320" y="4371840"/>
            <a:ext cx="2857320" cy="1600200"/>
          </a:xfrm>
          <a:prstGeom prst="rect">
            <a:avLst/>
          </a:prstGeom>
          <a:ln w="0">
            <a:noFill/>
          </a:ln>
        </p:spPr>
      </p:pic>
      <p:pic>
        <p:nvPicPr>
          <p:cNvPr id="382" name="Picture 6" descr=""/>
          <p:cNvPicPr/>
          <p:nvPr/>
        </p:nvPicPr>
        <p:blipFill>
          <a:blip r:embed="rId5"/>
          <a:stretch/>
        </p:blipFill>
        <p:spPr>
          <a:xfrm>
            <a:off x="304920" y="1413000"/>
            <a:ext cx="2705040" cy="1685880"/>
          </a:xfrm>
          <a:prstGeom prst="rect">
            <a:avLst/>
          </a:prstGeom>
          <a:ln w="0">
            <a:noFill/>
          </a:ln>
        </p:spPr>
      </p:pic>
      <p:pic>
        <p:nvPicPr>
          <p:cNvPr id="383" name="Picture 7" descr=""/>
          <p:cNvPicPr/>
          <p:nvPr/>
        </p:nvPicPr>
        <p:blipFill>
          <a:blip r:embed="rId6"/>
          <a:stretch/>
        </p:blipFill>
        <p:spPr>
          <a:xfrm>
            <a:off x="3505320" y="1413000"/>
            <a:ext cx="1714320" cy="2676240"/>
          </a:xfrm>
          <a:prstGeom prst="rect">
            <a:avLst/>
          </a:prstGeom>
          <a:ln w="0">
            <a:noFill/>
          </a:ln>
        </p:spPr>
      </p:pic>
      <p:pic>
        <p:nvPicPr>
          <p:cNvPr id="384" name="Picture 8" descr=""/>
          <p:cNvPicPr/>
          <p:nvPr/>
        </p:nvPicPr>
        <p:blipFill>
          <a:blip r:embed="rId7"/>
          <a:stretch/>
        </p:blipFill>
        <p:spPr>
          <a:xfrm>
            <a:off x="304920" y="4371840"/>
            <a:ext cx="189540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Lucida Sans Unicode"/>
              </a:rPr>
              <a:t>http://herocomplex.latimes.com/comics/captain-america-in-wartime-a-symbol-at-the-height-of-his-power/</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Lucida Sans Unicode"/>
              </a:rPr>
              <a:t>http://damngoodcup.com/captain-america-and-symbolism-have-superheroes-become-mindless-schlock-entertainment</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u="sng">
                <a:solidFill>
                  <a:srgbClr val="000000"/>
                </a:solidFill>
                <a:uFillTx/>
                <a:latin typeface="Lucida Sans Unicode"/>
              </a:rPr>
              <a:t>http://www.academia.edu/1860029/Saving_the_World_the_American_Way_Superheroes_in_Support_of_U.S._Militarism</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Lucida Sans Unicode"/>
              </a:rPr>
              <a:t>http://www.digitalhistory.uh.edu/historyonline/hollywood_history.cfm</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Lucida Sans Unicode"/>
              </a:rPr>
              <a:t>http://www.allstarflags.com/facts/boosting-patriotism-with-American-flags-in-movies/</a:t>
            </a:r>
            <a:endParaRPr b="0" lang="en-US" sz="2500" spc="-1" strike="noStrike">
              <a:solidFill>
                <a:srgbClr val="000000"/>
              </a:solidFill>
              <a:latin typeface="Lucida Sans Unicode"/>
            </a:endParaRPr>
          </a:p>
        </p:txBody>
      </p:sp>
      <p:pic>
        <p:nvPicPr>
          <p:cNvPr id="479"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 4 minute clip of Captain Amer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 “Man of Steel” “Captain America” “The Amazing Spiderman 2”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your initial responses to these trail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the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characteristics do the superheroes ha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o they l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What are they fighting aga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y sav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o they feel about their role?</a:t>
            </a: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87">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87">
                                            <p:txEl>
                                              <p:pRg st="3" end="3"/>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387">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3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if anything, do you think these movies may symboliz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you think the goal of these movies a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you think these movies have the power to influence people? Opinions? Politics? Countries?</a:t>
            </a:r>
            <a:endParaRPr b="0" lang="en-US" sz="2700" spc="-1" strike="noStrike">
              <a:solidFill>
                <a:srgbClr val="000000"/>
              </a:solidFill>
              <a:latin typeface="Lucida Sans Unicode"/>
            </a:endParaRPr>
          </a:p>
        </p:txBody>
      </p:sp>
      <p:pic>
        <p:nvPicPr>
          <p:cNvPr id="390"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have to look beyond the basic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the symbolism behind the obviou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y would a movie show the US fighting against the Soviet Union during the Cold Wa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k why are they doing this? Saying this? Acting this way? Who gains from th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 away the flash and look at the message</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08:13:41Z</dcterms:created>
  <dc:creator>eduffy25</dc:creator>
  <dc:description/>
  <dc:language>en-US</dc:language>
  <cp:lastModifiedBy>eduffy25</cp:lastModifiedBy>
  <dcterms:modified xsi:type="dcterms:W3CDTF">2014-04-20T05:55:09Z</dcterms:modified>
  <cp:revision>40</cp:revision>
  <dc:subject/>
  <dc:title>PowerPoint Presentation</dc:title>
</cp:coreProperties>
</file>